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B25-0FE6-4487-87F0-26677A80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8C9-6AFE-4E74-852D-6B70987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4C2-2454-4A52-86DC-0B4D813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9D5-EA16-4F9A-B6A7-D83C149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B2D-5E2E-49CB-9E37-435A04A4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20C-6DA7-4B96-8416-4B6B414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43-E186-44AD-82FF-A5226F8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19C-9094-46CC-8EAA-93A91072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077-F199-4F24-8343-31F63CA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D3A-8D00-4809-A96D-A2E901BB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213-7153-4FCA-9513-07B661AA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487-BEBC-4936-A5C6-B5766F4A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1C2A33A8-CD39-464D-8C65-9E1DAC0AA490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ion and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per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he bits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s to the left, shifting in zero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= 1111 1111 1111 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&l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ls 1111 1111 1110 0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he bits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s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the sign if it is a signed integer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arithmetic shif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0 if it is an unsigned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0111 1111 1111 1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111 1111 1111 1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logic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ll integ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Bitwis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F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00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&amp;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0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itwise In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|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^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compleme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 y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all of the bits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ift,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is often slower than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2 can be replaced by shifting 1 bit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n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 , n*2, n&lt;&l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, n*4, n&lt;&lt;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by 2 can be replace by shifting 1 bit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n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 , n/2, n&gt;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, n/4, n&gt;&gt;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Precede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 )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, ++, --, unary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*, /, %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,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&lt;, &gt;&g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, &lt;=, &gt;, &g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=, !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^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, +=, -=, etc.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be adding more to this list later 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6765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219320"/>
            <a:ext cx="0" cy="571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fference between the two lines of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w=10,x=20,y=30,z=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temp1, tem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1 = x * x /++y + z /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temp1= %d;\nw= %d;\nx= %d;\ny= %d;\nz= %d\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1, w,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y=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2 = x * x /y++ + z /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temp2= %d;\nw= %d;\nx= %d;\ny= %d;\nz= %d\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2, w,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ditional operator essentially allows you to embed an “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tatement into a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p1  ?  exp2  :  exp3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1 is true (non-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 is ex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exp3 is not evalu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1 is false (0),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 is ex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exp2 is not evalu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(x &gt; y) ? x :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quivalen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55320"/>
            <a:ext cx="3639960" cy="649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1440" y="1066680"/>
            <a:ext cx="9136080" cy="616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can be composed of multiple subexpressions separated by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expressions are evaluated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ire expression evaluates to the valu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ghtmost sub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(a++, b++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cr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igned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cr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is are required because the comma operator has a lower precedence than the assignment oper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a operator is often used i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 Operator and For Lo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int i,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for (i=0,sum=0;i&lt;100;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   </a:t>
            </a: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sum +=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printf(“1+...+100 = %d”, s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ions and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 +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ressions formed by data and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in C usually ha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the function call that return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Ac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ddi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Adds operand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ubtraction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Subs second from firs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-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egation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-           Negates operan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*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Multiplies operand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ivis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/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Divides first by secon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/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integer quot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dulu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%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Remainder of divide op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%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86000"/>
            <a:ext cx="899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ignment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this expression i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has a side effect -- assig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de-effect is to assign the value of the right hand side (rhs) to the left hand side (lh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the value of the r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( y = 3 ) +1;      /* y is assigned 3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the value of (y=3) is 3 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x is assigned 4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und Assignment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e use “update” forms of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x+1,  x=x*2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offers a short form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op=  expr       equivalent to  variable = variable op exp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ms have value equal to the final value of 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=3; y= (x+=3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/* x and y both get value 6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276720"/>
            <a:ext cx="5562720" cy="30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Equivalent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*= y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x *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-= z + 1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y - (z +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/= b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= a /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+= y / 8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x + (y /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%= 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y %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perators with side effects are the pre- and post-increment and decrement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x, x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s the same as :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 = x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lu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9900cc"/>
                </a:solidFill>
                <a:latin typeface="Arial"/>
              </a:rPr>
              <a:t>ol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ide-effect of increment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lu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9900cc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ide-effect of increment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-            --x, x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operators allow you to compar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turn a 1 value for true and a 0 for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=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 &gt;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/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g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=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/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=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!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!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no </a:t>
            </a:r>
            <a:r>
              <a:rPr b="0" lang="en-CA" sz="2800" spc="-1" strike="noStrike">
                <a:solidFill>
                  <a:srgbClr val="9900cc"/>
                </a:solidFill>
                <a:latin typeface="Arial"/>
              </a:rPr>
              <a:t>boo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ype in C.  Instead, C 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 as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zero integer a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6668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133720"/>
            <a:ext cx="0" cy="3504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2133720"/>
            <a:ext cx="0" cy="3504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&amp;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      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       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!((a&gt;1)&amp;&amp;(a&lt;10))||((a&lt;-1)&amp;&amp;(a&gt;-10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5252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llows you to operate on the bit representations of integer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alled bit-wise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tegers can be thought of in binary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uppose ints have 16-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52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1111 1111 1111 0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FF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776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, hexadecimal literals begin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ctal literals begin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6552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0xfff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16 (h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017776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8 (oc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7T01:29:11Z</dcterms:modified>
  <cp:revision>1422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